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2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F8C-A852-43B5-A4DC-3B8E43E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E1E-6216-45B7-A1F1-2CFB2F1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93D-5D41-46DF-81C9-4667E7D5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26E-F249-4A88-8FD9-75F0ADD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379-7BB4-4EDC-B047-F683C8DC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9FC-CB8E-4D08-B43A-30A5D7A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28E-29DB-4750-A9D3-EE2CCE2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DC7-0EEF-4155-B34B-3DC02B8C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2E0-4908-4FB1-A112-2B1B437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EB1-C16D-4099-BBD3-8336FCD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7BA-0D18-48A2-8351-0110A9B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D6D-58DF-486A-87D4-82606B8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75AC-1211-46B0-BD97-07D7FAA8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Y00477_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198144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SY00465_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2361960" cy="259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2666880" cy="3353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77120" y="5029200"/>
            <a:ext cx="930240" cy="8254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4048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528560" cy="1827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124440" cy="426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4495680"/>
            <a:ext cx="2438280" cy="1752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623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53080" y="53341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28195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8660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81952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67480" y="4532400"/>
            <a:ext cx="1339920" cy="2325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2880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257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366840" cy="741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2438640" cy="39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86600" y="5105520"/>
            <a:ext cx="766800" cy="714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252520" cy="441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0:38:25Z</dcterms:created>
  <dc:creator>Admin</dc:creator>
  <dc:description/>
  <dc:language>en-US</dc:language>
  <cp:lastModifiedBy>Admin</cp:lastModifiedBy>
  <dcterms:modified xsi:type="dcterms:W3CDTF">2011-07-21T11:15:33Z</dcterms:modified>
  <cp:revision>2</cp:revision>
  <dc:subject/>
  <dc:title>Presentación de PowerPoint</dc:title>
</cp:coreProperties>
</file>